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C4C7-8C64-49BC-B7A8-B3AC5E2F6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A718-D9B3-4F87-BFBB-053696EB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0BB9-E850-4B10-BCB2-17F145D5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CD34-2CBB-4493-ABAB-0B2FA6F9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DC38-1710-4436-8D41-71D47F270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039B-E38A-4458-B917-7A037661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D741-2F14-4C58-8E7F-2D3678CE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C766-640C-49E7-9ECA-F3FF6597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35FF-D2B1-4263-BA4B-E8A5567A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AEA3-57C6-4064-966F-756FAEAD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46D5-C1A8-4674-AAD5-70399F73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6AC1-922E-4B4C-A217-8AA69E58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621C-6FC5-45EB-BFB2-6B7D6DFF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F2B7-B0F0-4E6E-AC1A-3DC08FF8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CC2D-4927-4E0A-8D8A-955A0791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7941-C877-4440-A823-2394707C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1D79-42C1-49D4-A64F-1AC6C7ED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91BF2-404B-400A-A460-9F1019BB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F9D3A-BC7C-4A36-8D53-B1C32A70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CA9CF-15FB-430D-83C8-86AD9E5B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753AE-D301-403E-92D1-2E84ABD9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4F4F1-73BE-4B87-B773-2864D26F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C3D3-EF0C-4F51-A05B-8D71F34E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456E3-7933-4006-A8EF-14ADC720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D5D97-3CB6-45AB-B619-E0E7A4AB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8B12F-5561-4878-8285-71D1F807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7A078-EF16-4802-AC6A-A8C89F44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D62CB-6067-4B50-9327-E53F7D4E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CD73A-C054-4570-8ABE-82D1E63E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D7372-B217-43DC-8BD9-8B4C76E0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BC3EB-7941-43DE-9CEC-D448306D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B779C-4F39-4712-9877-2ED4A792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750E5-45DA-4103-8EE6-B314068A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4237-F7ED-4AA1-8D47-BEBA2DF0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42053-6129-4E40-B305-139D5CA1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53BC2-B3DA-4250-BAC4-F416046D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26611-B0B6-42DB-8F39-706B7EE9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4E648-37D6-4BBC-8F80-442A2DB9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829C8-A5C3-4500-8724-DD86D4B4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CB730-78B9-45E4-ACC7-DB9E600B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1D841-6F4E-4F09-B7DE-4AEAD9A4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485C6-5D4E-4127-A90A-2A742286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530F0-B225-488E-9570-59C50B25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66FF-BAF3-452F-B996-6B86ECEB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B7BF-2962-417F-B997-9EA9E765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6F95-B9BC-4BB5-9A98-7D9BD329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0489-A0A4-46E0-88F8-B458DDA8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5050-AF62-4D26-AE17-2EF42099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9783-A609-4F9B-B282-4725B509A7EA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D5BC-A35F-42B3-91CE-83A1633D31A0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C8B0-3C7C-4167-8774-DED8161D4A15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5CFD-9516-4730-9A38-8ACAC3F1FE69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ГРАЖДАНСКИЙ БЮДЖЕТ </a:t>
            </a:r>
            <a:br>
              <a:rPr sz="5400"/>
            </a:b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на 2019–2021 годы</a:t>
            </a:r>
            <a:br>
              <a:rPr sz="5400"/>
            </a:br>
            <a:r>
              <a:rPr b="1" lang="ru-RU" sz="3200" spc="-1" strike="noStrike">
                <a:solidFill>
                  <a:srgbClr val="0000cc"/>
                </a:solidFill>
                <a:latin typeface="Trebuchet MS"/>
              </a:rPr>
              <a:t>(</a:t>
            </a:r>
            <a:r>
              <a:rPr b="1" lang="ru-RU" sz="3600" spc="-1" strike="noStrike">
                <a:solidFill>
                  <a:srgbClr val="0000cc"/>
                </a:solidFill>
                <a:latin typeface="Trebuchet MS"/>
              </a:rPr>
              <a:t>уточненный на 15 ноября</a:t>
            </a:r>
            <a:r>
              <a:rPr b="1" lang="ru-RU" sz="3200" spc="-1" strike="noStrike">
                <a:solidFill>
                  <a:srgbClr val="0000cc"/>
                </a:solidFill>
                <a:latin typeface="Trebuchet MS"/>
              </a:rPr>
              <a:t>)</a:t>
            </a:r>
            <a:br>
              <a:rPr sz="3600"/>
            </a:b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Рисунок 6" descr="logoМЭРТ.gif"/>
          <p:cNvPicPr/>
          <p:nvPr/>
        </p:nvPicPr>
        <p:blipFill>
          <a:blip r:embed="rId1"/>
          <a:stretch/>
        </p:blipFill>
        <p:spPr>
          <a:xfrm>
            <a:off x="7315200" y="298440"/>
            <a:ext cx="160956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4191120" y="6605640"/>
            <a:ext cx="1828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7744-B99D-497C-B338-EB0595E55F9F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48080" y="123840"/>
            <a:ext cx="531504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Расходы на реализацию мероприятий</a:t>
            </a:r>
            <a:br>
              <a:rPr sz="2200"/>
            </a:b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 в сфере здравоохранения</a:t>
            </a:r>
            <a:endParaRPr b="1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8600" y="1676520"/>
          <a:ext cx="8763120" cy="3886200"/>
        </p:xfrm>
        <a:graphic>
          <a:graphicData uri="http://schemas.openxmlformats.org/drawingml/2006/table">
            <a:tbl>
              <a:tblPr/>
              <a:tblGrid>
                <a:gridCol w="5114880"/>
                <a:gridCol w="1328760"/>
                <a:gridCol w="1187640"/>
                <a:gridCol w="1131840"/>
              </a:tblGrid>
              <a:tr h="264960">
                <a:tc gridSpan="4"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33cc"/>
                          </a:solidFill>
                          <a:latin typeface="Trebuchet MS"/>
                        </a:rPr>
                        <a:t>млн. тенг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 row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 год  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гноз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тверж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сходы на здравоохранение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с аппаратом управл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8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7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5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рана здоровья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ециализированная медицинск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виды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 услуги в области здравоохра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7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9" name="Picture 76" descr=""/>
          <p:cNvPicPr/>
          <p:nvPr/>
        </p:nvPicPr>
        <p:blipFill>
          <a:blip r:embed="rId1"/>
          <a:stretch/>
        </p:blipFill>
        <p:spPr>
          <a:xfrm>
            <a:off x="0" y="0"/>
            <a:ext cx="1530360" cy="1371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7" descr=""/>
          <p:cNvPicPr/>
          <p:nvPr/>
        </p:nvPicPr>
        <p:blipFill>
          <a:blip r:embed="rId2"/>
          <a:stretch/>
        </p:blipFill>
        <p:spPr>
          <a:xfrm>
            <a:off x="1914480" y="28440"/>
            <a:ext cx="1523880" cy="13431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6"/>
          <p:cNvSpPr/>
          <p:nvPr/>
        </p:nvSpPr>
        <p:spPr>
          <a:xfrm>
            <a:off x="762120" y="6324480"/>
            <a:ext cx="7696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9080" y="838080"/>
          <a:ext cx="8839080" cy="5208840"/>
        </p:xfrm>
        <a:graphic>
          <a:graphicData uri="http://schemas.openxmlformats.org/drawingml/2006/table">
            <a:tbl>
              <a:tblPr/>
              <a:tblGrid>
                <a:gridCol w="561960"/>
                <a:gridCol w="561960"/>
                <a:gridCol w="3479760"/>
                <a:gridCol w="1505160"/>
                <a:gridCol w="1365120"/>
                <a:gridCol w="1365120"/>
              </a:tblGrid>
              <a:tr h="1573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здравоохранения обла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813 93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71 4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55 96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реализации государственной политики на местном уровне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674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15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95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охране материнства и дет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18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7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5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аганда здорового образа жи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профилактике и борьбе со СПИД в Республике Казах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38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спечение граждан бесплатным или льготным проездом за пределы населенного пункта на ле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7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1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формационно-аналитические услуги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9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0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ентрализованный закуп и хранение вакцин и других медицинских иммунобиологических препаратов для проведения иммунопрофилактики нас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51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37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59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ластные базы спецмедснабж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06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2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11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е расходы медицинских организаций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368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полнительное обеспечение гарантированного объема бесплатной медицинской помощи по решению местных представительных органов обла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240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455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664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ведение медицинской организацией мероприятий, снижающих половое влечение, осуществляемые на основании решения с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в организациях технического и профессионального, послесредне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77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87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54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Заголовок 2" descr=""/>
          <p:cNvPicPr/>
          <p:nvPr/>
        </p:nvPicPr>
        <p:blipFill>
          <a:blip r:embed="rId1"/>
          <a:stretch/>
        </p:blipFill>
        <p:spPr>
          <a:xfrm>
            <a:off x="384120" y="158760"/>
            <a:ext cx="8326440" cy="8650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76320" y="838080"/>
          <a:ext cx="8781840" cy="2659320"/>
        </p:xfrm>
        <a:graphic>
          <a:graphicData uri="http://schemas.openxmlformats.org/drawingml/2006/table">
            <a:tbl>
              <a:tblPr/>
              <a:tblGrid>
                <a:gridCol w="504720"/>
                <a:gridCol w="561960"/>
                <a:gridCol w="3479760"/>
                <a:gridCol w="1505160"/>
                <a:gridCol w="1365120"/>
                <a:gridCol w="1365120"/>
              </a:tblGrid>
              <a:tr h="228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вышение квалификации и переподготовка кад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8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6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с высшим, послевузовским образованием и оказание социальной поддержки обучающим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63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25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94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социальной и инженерной инфраструктуре в сельских населенных пунктах в рамках проекта «Ауыл-Ел бесігі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48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полнение государственных обязательств по проектам государственно-частного партнер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05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022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3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384120" y="195120"/>
            <a:ext cx="8229600" cy="64620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Таблица 3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6868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фия Ф. Садыкова</dc:creator>
  <dc:description/>
  <dc:language>en-US</dc:language>
  <cp:lastModifiedBy>Kapkenova</cp:lastModifiedBy>
  <cp:lastPrinted>2019-11-15T04:29:59Z</cp:lastPrinted>
  <dcterms:modified xsi:type="dcterms:W3CDTF">2019-11-15T05:52:32Z</dcterms:modified>
  <cp:revision>7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